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D9F-181F-4CC0-BE2D-DA9E68F2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4E6-F8E5-40D0-A9DC-586EEC2A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02F-047A-413C-95B0-FAF74C70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00F-F559-4492-AACA-C79E7293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975-F2FD-4F34-9F8A-A0DF4DE4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C90-0903-47C1-A3D0-6225E450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BED-710E-41A6-9F9B-1778A1C3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81D-923A-49CA-A071-ABBA4D16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306-A160-43BF-9BDF-7D023C0D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127D-1190-4575-9EE9-7D1C61E2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DA2-3157-4571-9397-AC7650F0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E20-6B5B-46E8-9CA2-C7C393DE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6C3D-AE9C-479F-BCA2-4B25FA34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44280"/>
            <a:ext cx="6408720" cy="81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     </a:t>
            </a:r>
            <a:r>
              <a:rPr b="1" lang="bg-BG" sz="4800" spc="-1" strike="noStrike">
                <a:solidFill>
                  <a:srgbClr val="ffff00"/>
                </a:solidFill>
                <a:latin typeface="Baskerville Old Face"/>
              </a:rPr>
              <a:t>9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О, прибежище добр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о, ти вечна Канар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Из Господните ребр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кръв изтече и вод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нека те да ме спася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и омият от грех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27280" y="115920"/>
            <a:ext cx="6408720" cy="74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2. Сълзи да проливам аз непрестанно, всеки час, никога не могат те греховете ми отне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Но Ти, вечна Канар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ме спасяваш от грех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27280" y="241200"/>
            <a:ext cx="6408720" cy="74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3. Нищо аз в ръцете с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не донасям, Господ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Гол съм - даваш облекло, нищо съм - даваш добро! Гладен, жаден - ястие даваш Ти и пит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95640" y="260280"/>
            <a:ext cx="6840360" cy="74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4. В краткотрайния</a:t>
            </a: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живот, Господи, до мен бъди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Близо в тоз плачевен дол</a:t>
            </a: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и пред съдния престол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О, Прибежище добр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о, Ти вечна Канар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1:28:03Z</dcterms:created>
  <dc:creator>TrifonTrifonow</dc:creator>
  <dc:description/>
  <dc:language>en-US</dc:language>
  <cp:lastModifiedBy>TrifonTrifonow</cp:lastModifiedBy>
  <dcterms:modified xsi:type="dcterms:W3CDTF">2005-11-22T09:21:25Z</dcterms:modified>
  <cp:revision>10</cp:revision>
  <dc:subject/>
  <dc:title>Slide 1</dc:title>
</cp:coreProperties>
</file>